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Орищенко ЕИ" initials="ОЕ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2-04-16T13:28:04.30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0FF-3ABE-419B-AC7C-DE1F09B2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AEC-62FC-4161-A7FB-371E2BB2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A4F-4B53-4DD4-A75B-DFBB0E98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2A1-DC76-4B96-B453-FA702713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3A9C-BCD7-47AE-9E9B-C0BCB8EB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8F97-1F7A-41BA-B746-0C8BE35B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7A38-3E91-48B2-A8D1-13FFD847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5B22-FF56-45A2-8273-61D9BF31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5111-66ED-41CC-80B2-EC2CC8E7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0C94-65D7-4B46-8D14-2CB33717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A2B5-63F1-4F33-ADCF-8B9CEF68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A84-5483-470E-A958-3C442896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6879-3F97-4865-80BE-996412A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B107-5627-4B39-9169-9E29E495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1968-F111-4B72-BFA4-19602834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6C82-6289-4D43-BBCC-F8E506AC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21FC-D5F9-40E9-A758-2A778888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CD5-5424-480B-8D5C-6D35D6C5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19F-DD12-4B5A-AF6B-6B03F4EA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9AD-6F39-4B8F-A051-A9056900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867-D6FD-4B71-AFDB-284DA7B2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552-6872-432F-BFBD-4A52FF30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C82-ADE0-481C-9B2A-46E59787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DCE-7EEF-415A-B905-54EEE91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0720"/>
                <a:ext cx="1833120" cy="1668960"/>
                <a:chOff x="852840" y="4050720"/>
                <a:chExt cx="1833120" cy="16689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5120" y="3933720"/>
                  <a:ext cx="477360" cy="12459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5960"/>
                    <a:gd name="textAreaBottom" fmla="*/ 1246320 h 12459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7360" y="4979520"/>
                  <a:ext cx="110520" cy="51084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840"/>
                    <a:gd name="textAreaBottom" fmla="*/ 511200 h 5108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7739-4EB1-4072-BE45-66F58F39EA9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1440" y="58320"/>
              <a:ext cx="3628440" cy="6141240"/>
              <a:chOff x="5401440" y="58320"/>
              <a:chExt cx="3628440" cy="6141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4760" y="343080"/>
                <a:ext cx="2112480" cy="2355480"/>
              </a:xfrm>
              <a:custGeom>
                <a:avLst/>
                <a:gdLst>
                  <a:gd name="textAreaLeft" fmla="*/ 0 w 2112480"/>
                  <a:gd name="textAreaRight" fmla="*/ 2112840 w 2112480"/>
                  <a:gd name="textAreaTop" fmla="*/ -360 h 2355480"/>
                  <a:gd name="textAreaBottom" fmla="*/ 2355480 h 23554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3200" y="1962000"/>
                <a:ext cx="905040" cy="842400"/>
              </a:xfrm>
              <a:custGeom>
                <a:avLst/>
                <a:gdLst>
                  <a:gd name="textAreaLeft" fmla="*/ 0 w 905040"/>
                  <a:gd name="textAreaRight" fmla="*/ 905400 w 90504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8588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3280" y="668880"/>
                <a:ext cx="388080" cy="55044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14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2320" y="124164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1720" y="2939040"/>
                <a:ext cx="522720" cy="326664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>
                <a:gd name="textAreaLeft" fmla="*/ 0 w 1999080"/>
                <a:gd name="textAreaRight" fmla="*/ 1999440 w 199908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3160"/>
              <a:ext cx="1690560" cy="1146600"/>
              <a:chOff x="375840" y="44316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16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868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08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8640" y="3712320"/>
              <a:ext cx="1156320" cy="1607760"/>
              <a:chOff x="738864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33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408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700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A4DA-D0A7-48CF-B14B-732ECA0F9EB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4400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Презентация к внеклассному мероприятию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ИГРА-ПУТЕШЕСТВИЕ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«ТРОПИНКАМИ ЗДОРОВЬЯ»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 </a:t>
            </a:r>
            <a:r>
              <a:rPr b="0" lang="ru-RU" sz="1800" spc="-1" strike="noStrike">
                <a:solidFill>
                  <a:srgbClr val="006666"/>
                </a:solidFill>
                <a:latin typeface="Meiryo UI"/>
                <a:ea typeface="Meiryo UI"/>
              </a:rPr>
              <a:t>подготовил учитель начальных классов МКОУ Копанская ООШ Россошанского муниципального района Воронежской области Орищенко Елена Ивановна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imgpreviewCAQ3P6TP.jpg"/>
          <p:cNvPicPr/>
          <p:nvPr/>
        </p:nvPicPr>
        <p:blipFill>
          <a:blip r:embed="rId1"/>
          <a:stretch/>
        </p:blipFill>
        <p:spPr>
          <a:xfrm>
            <a:off x="1619280" y="1052640"/>
            <a:ext cx="5977080" cy="4464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9"/>
          <p:cNvSpPr/>
          <p:nvPr/>
        </p:nvSpPr>
        <p:spPr>
          <a:xfrm>
            <a:off x="1714680" y="285840"/>
            <a:ext cx="6286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ЧЁ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1"/>
          <p:cNvSpPr/>
          <p:nvPr/>
        </p:nvSpPr>
        <p:spPr>
          <a:xfrm>
            <a:off x="971640" y="1197000"/>
            <a:ext cx="7200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539640" y="530280"/>
            <a:ext cx="7848720" cy="54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just">
              <a:lnSpc>
                <a:spcPct val="9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Защищать уши от сильного шум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Защищать уши от ветр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ковырять в ушах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сморкаться сильн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допускать попадания воды в уши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Если уши заболели, обратиться к врачу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Правильно чистить уши: намыленным пальцем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Мыть уши каждый день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Каждое утро разминать ушную раковину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AATW2SWCAUW84FTCAE5FUYBCAJYB6W9CAWG42I7CAIWFYM4CALEJLT3CA02M164CAB30LOCCAIXAGYICABLZLUDCA1V5QDNCAC3X7ZFCAK8VFG4CADZTAYGCAK2E62BCA0KATZ2CA6COYCUCA5N6ZEQCAQB0C44.jpg"/>
          <p:cNvPicPr/>
          <p:nvPr/>
        </p:nvPicPr>
        <p:blipFill>
          <a:blip r:embed="rId1"/>
          <a:stretch/>
        </p:blipFill>
        <p:spPr>
          <a:xfrm>
            <a:off x="2214720" y="714240"/>
            <a:ext cx="50004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из вас всегда готов жизнь прожить без докторов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971640" y="1557360"/>
            <a:ext cx="76327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не хочет быть здоровым, бодрым стройным и весёлым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620280"/>
            <a:ext cx="82440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то из вас не ходит хмурый, любит спорт и физкультуру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1116000" y="3068640"/>
            <a:ext cx="698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549360"/>
            <a:ext cx="824400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из вас не ходит хмурый, любит спорт и физкультуру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1763640" y="126432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мороза не боится, на коньках летит, как птица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6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Ну а кто начнет обед жвачкой с парою конфет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042920" y="973080"/>
            <a:ext cx="720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же любит помидоры, фрукты, овощи, лимоны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Comic Sans MS"/>
              </a:rPr>
              <a:t>В гости к леснику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" name="Picture 10" descr="C:\Users\Орищенко ЕИ\Pictures\DSCF1267.jpg"/>
          <p:cNvPicPr/>
          <p:nvPr/>
        </p:nvPicPr>
        <p:blipFill>
          <a:blip r:embed="rId1"/>
          <a:stretch/>
        </p:blipFill>
        <p:spPr>
          <a:xfrm>
            <a:off x="1692360" y="2457360"/>
            <a:ext cx="57592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003640" y="5734080"/>
            <a:ext cx="338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191280" y="5950080"/>
            <a:ext cx="2952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5435640" y="5373720"/>
            <a:ext cx="26654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971640" y="1196640"/>
            <a:ext cx="720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поел и чистит зубки регулярно дважды в сутки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"/>
          <p:cNvSpPr/>
          <p:nvPr/>
        </p:nvSpPr>
        <p:spPr>
          <a:xfrm>
            <a:off x="5003640" y="5445000"/>
            <a:ext cx="316872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4360" y="12272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из вас, из малышей, ходит грязный до ушей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Oval 5"/>
          <p:cNvSpPr/>
          <p:nvPr/>
        </p:nvSpPr>
        <p:spPr>
          <a:xfrm>
            <a:off x="5076720" y="5805360"/>
            <a:ext cx="359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116000" y="83340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согласно распорядку выполняет физзарядку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3"/>
          <p:cNvSpPr/>
          <p:nvPr/>
        </p:nvSpPr>
        <p:spPr>
          <a:xfrm>
            <a:off x="5003640" y="5661000"/>
            <a:ext cx="288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11280" y="138276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, хочу у вас узнать, любит петь и отдыхать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66"/>
                </a:solidFill>
                <a:latin typeface="Comic Sans MS"/>
              </a:rPr>
              <a:t>Молодцы!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точни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http://images.yandex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http://viki.rdf.ru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http://fotki.yandex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http://plant.geoman.ru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http://forest.geoman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Закрой глаза и прислушайся к окружающим тебя звука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4" descr="природа"/>
          <p:cNvPicPr/>
          <p:nvPr/>
        </p:nvPicPr>
        <p:blipFill>
          <a:blip r:embed="rId1"/>
          <a:stretch/>
        </p:blipFill>
        <p:spPr>
          <a:xfrm>
            <a:off x="971640" y="2421000"/>
            <a:ext cx="72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БЕ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6" descr="C:\Users\Орищенко ЕИ\Pictures\0006-005-Belka.jpg"/>
          <p:cNvPicPr/>
          <p:nvPr/>
        </p:nvPicPr>
        <p:blipFill>
          <a:blip r:embed="rId1"/>
          <a:stretch/>
        </p:blipFill>
        <p:spPr>
          <a:xfrm>
            <a:off x="1714680" y="1844640"/>
            <a:ext cx="5715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ЗАЙ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8" descr="C:\Users\Орищенко ЕИ\Pictures\0003-002-Zajats.jpg"/>
          <p:cNvPicPr/>
          <p:nvPr/>
        </p:nvPicPr>
        <p:blipFill>
          <a:blip r:embed="rId1"/>
          <a:stretch/>
        </p:blipFill>
        <p:spPr>
          <a:xfrm>
            <a:off x="1116000" y="1844640"/>
            <a:ext cx="7128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305920" cy="60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</a:t>
            </a: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регите нос от ушибов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ковыряйте в носу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суйте в нос посторонние       предметы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Закаляйтесь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Берегите органы от простуды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курите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УЛИТ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6" descr="C:\Users\Орищенко ЕИ\Pictures\ulitka06.jpg"/>
          <p:cNvPicPr/>
          <p:nvPr/>
        </p:nvPicPr>
        <p:blipFill>
          <a:blip r:embed="rId1"/>
          <a:stretch/>
        </p:blipFill>
        <p:spPr>
          <a:xfrm>
            <a:off x="1979640" y="2286000"/>
            <a:ext cx="48960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Verdana"/>
              </a:rPr>
              <a:t>Вредно или полезно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итать лежа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мотреть на яркий свет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мотреть близко телевизор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ерегать глаз от ударов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мывать по утрам глаза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реть глаза грязными руками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итать при хорошем освещении.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468360" y="381240"/>
            <a:ext cx="813600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9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Умываться по утра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Смотреть телевизор не более 1-1,5 часов вдень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Сидеть не ближе 3 м от телевизор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читать леж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читать в транспорте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Оберегать глаза от попаданий в них инородных предметов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При чтении и письме свет должен освещать страницу слев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Расстояние от глаз до текста рекомендуется 30-35 с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Употреблять в пищу достаточное). количество растительных продуктов (морковь, лук, петрушку, помидоры, сладкий красный перец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10.</a:t>
            </a: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DejaVu Sans"/>
              </a:rPr>
              <a:t>Делать гимнастику для глаз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4:42:35Z</dcterms:created>
  <dc:creator>***$USER$***</dc:creator>
  <dc:description/>
  <dc:language>en-US</dc:language>
  <cp:lastModifiedBy>Орищенко ЕИ</cp:lastModifiedBy>
  <dcterms:modified xsi:type="dcterms:W3CDTF">2014-01-24T08:13:48Z</dcterms:modified>
  <cp:revision>41</cp:revision>
  <dc:subject/>
  <dc:title>В гости к Смешарикам</dc:title>
</cp:coreProperties>
</file>